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57A-01E2-4102-9A86-1E712CB3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D77-D962-49AC-A786-28EE6E9E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BB5-527D-4DEA-997E-B75C1A41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D38-CB6E-4E1F-84DE-F622AC54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643B-F3A3-4526-BFD0-B757A07B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3632-C983-4B65-8105-420A49A9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CBEB-3FF6-4B8D-A0B0-EF544C2F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B1D2-9952-4D42-8BB9-F5808D9C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17BC-4286-4A5B-A99A-621B47F7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9600-0FD9-49BF-AB45-BF3B1403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317B-2B6E-445F-B1AF-9541F06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091-4435-4E91-AC3A-1CB73BFD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4A06-B6B3-49E2-AA06-D2B3F25A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1A46-5E53-4D5B-B59F-2C6EE20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634D-CF8B-4B66-9D4F-2DB0AC3F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741B-6B62-4592-AA54-906C134A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FD3F-F4D2-4E94-A431-9658B05B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264D3-881D-4316-81EE-D52984EE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FFC0-B7CB-4E43-AF97-A8DCCD2B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6CD0-D870-43B8-984A-2C62CB79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F82E6-A1ED-45CC-8381-D3896F56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D3E1-026D-48FE-A956-AD45FC11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A4A-5B08-4A47-AE62-57188713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3B72-9710-4C8B-8F3D-8377D122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67E2-7DDB-40D1-913C-030F4AB9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62F40-A686-4436-9B56-A049192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9F2A-2534-450D-91C4-27B53A02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13EE-EA73-4E65-A912-114CA568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E919-47FD-47BA-A625-6171C0F6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A62F-DA12-4456-A62D-7BA6983A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31BA8-A13F-40C8-BA08-5B0E5B0A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2B1FE-1EE3-4EA5-84F0-52EB78BF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5DA6-00C5-496D-AE37-E37A1E78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5F3-6E5A-425A-A339-B3C2EFD2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C8D6-91EE-4B23-AFDD-6C72FCA7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0AA53-DC48-417E-A3EF-47E78977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4A68-E2FD-474F-AB44-9A671A45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0FF2-B242-461F-B4BB-70CF9C1E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35B85-BD24-40A6-9588-CD74D572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C0C60-F02A-491E-8512-36D742B5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77F87-AF29-44FA-9283-F4FC279B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72CFB-EB14-4183-A37E-44E711C2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4E88C-E660-49A3-B9F4-DFD033FB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93D-CB87-4F17-A204-A1429CC5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FFC-C0B3-4757-AF1C-F930DDDB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AED-D55D-47F8-B76E-0F266A4B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AA6-4063-436F-81FC-7F3FAEB5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6C2-EB23-4720-B51D-ABD0CA7A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3D7B-289F-45DD-A322-CA6CDCDC9F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Рамка 7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5" name="Рамка 7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Рамка 7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44" name="Рамка 7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Рисунок 6" descr="Spring_Branch_White_PNG_Clipart.png"/>
          <p:cNvPicPr/>
          <p:nvPr/>
        </p:nvPicPr>
        <p:blipFill>
          <a:blip r:embed="rId4"/>
          <a:stretch/>
        </p:blipFill>
        <p:spPr>
          <a:xfrm rot="12068400">
            <a:off x="6526080" y="-30240"/>
            <a:ext cx="2802240" cy="1057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1_6-ptica.gif"/>
          <p:cNvPicPr/>
          <p:nvPr/>
        </p:nvPicPr>
        <p:blipFill>
          <a:blip r:embed="rId5"/>
          <a:stretch/>
        </p:blipFill>
        <p:spPr>
          <a:xfrm>
            <a:off x="0" y="3714840"/>
            <a:ext cx="1149480" cy="128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BBF7-6B59-4099-A161-F210916D3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Рамка 7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89" name="Рамка 7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Рисунок 6" descr="00000032.gif"/>
          <p:cNvPicPr/>
          <p:nvPr/>
        </p:nvPicPr>
        <p:blipFill>
          <a:blip r:embed="rId4"/>
          <a:stretch/>
        </p:blipFill>
        <p:spPr>
          <a:xfrm>
            <a:off x="0" y="4616280"/>
            <a:ext cx="3786120" cy="527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00000032.gif"/>
          <p:cNvPicPr/>
          <p:nvPr/>
        </p:nvPicPr>
        <p:blipFill>
          <a:blip r:embed="rId5"/>
          <a:srcRect l="15704" t="0" r="0" b="0"/>
          <a:stretch/>
        </p:blipFill>
        <p:spPr>
          <a:xfrm>
            <a:off x="3714840" y="4589640"/>
            <a:ext cx="3357360" cy="5540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00000032.gif"/>
          <p:cNvPicPr/>
          <p:nvPr/>
        </p:nvPicPr>
        <p:blipFill>
          <a:blip r:embed="rId6"/>
          <a:srcRect l="15704" t="0" r="30491" b="0"/>
          <a:stretch/>
        </p:blipFill>
        <p:spPr>
          <a:xfrm>
            <a:off x="7000920" y="4589640"/>
            <a:ext cx="2143080" cy="554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B108-CA22-4F0E-AC03-AA6CF658E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Рамка 7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136" name="Рамка 7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Рисунок 6" descr="123932961_ptica_vorob_a.gif"/>
          <p:cNvPicPr/>
          <p:nvPr/>
        </p:nvPicPr>
        <p:blipFill>
          <a:blip r:embed="rId4"/>
          <a:stretch/>
        </p:blipFill>
        <p:spPr>
          <a:xfrm>
            <a:off x="7858080" y="142920"/>
            <a:ext cx="1171800" cy="9763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8" descr="cartoon-snow-birds.jpg"/>
          <p:cNvPicPr/>
          <p:nvPr/>
        </p:nvPicPr>
        <p:blipFill>
          <a:blip r:embed="rId5"/>
          <a:stretch/>
        </p:blipFill>
        <p:spPr>
          <a:xfrm rot="4367400">
            <a:off x="126360" y="3743280"/>
            <a:ext cx="1284480" cy="1214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953F-B26F-45AC-9141-ACA765D40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9154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Урок  литературного  чтения</a:t>
            </a:r>
            <a:br>
              <a:rPr sz="4400"/>
            </a:b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4 класс « Школа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143400" y="2928960"/>
            <a:ext cx="270036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Фролова А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учитель 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МБОУ СОШ № 11 имени Н.А.Свисту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194760"/>
            <a:ext cx="8534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C:\Users\Администратор\Desktop\Откр. урок по литер. чтен\4fa58a4e3bff7c98c12520b84ea1dcd5_XL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000" y="205920"/>
            <a:ext cx="88567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C:\Users\Администратор\Desktop\Откр. урок по литер. чтен\1521407556_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440" y="3769920"/>
            <a:ext cx="54864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5" descr="1236188407_meh_muz_instr.jpg"/>
          <p:cNvPicPr/>
          <p:nvPr/>
        </p:nvPicPr>
        <p:blipFill>
          <a:blip r:embed="rId1"/>
          <a:srcRect l="0" t="21877" r="0" b="21877"/>
          <a:stretch/>
        </p:blipFill>
        <p:spPr>
          <a:xfrm>
            <a:off x="179280" y="195120"/>
            <a:ext cx="7272360" cy="4680000"/>
          </a:xfrm>
          <a:prstGeom prst="rect">
            <a:avLst/>
          </a:prstGeom>
          <a:ln w="0">
            <a:noFill/>
          </a:ln>
        </p:spPr>
      </p:pic>
      <p:cxnSp>
        <p:nvCxnSpPr>
          <p:cNvPr id="205" name="Прямая со стрелкой 4"/>
          <p:cNvCxnSpPr/>
          <p:nvPr/>
        </p:nvCxnSpPr>
        <p:spPr>
          <a:xfrm flipH="1">
            <a:off x="4211640" y="1779120"/>
            <a:ext cx="1440360" cy="10036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06" name="TextBox 5"/>
          <p:cNvSpPr/>
          <p:nvPr/>
        </p:nvSpPr>
        <p:spPr>
          <a:xfrm>
            <a:off x="5651640" y="1347840"/>
            <a:ext cx="1224000" cy="520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а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Прямая со стрелкой 9"/>
          <p:cNvCxnSpPr/>
          <p:nvPr/>
        </p:nvCxnSpPr>
        <p:spPr>
          <a:xfrm flipH="1">
            <a:off x="3563280" y="2716200"/>
            <a:ext cx="2377080" cy="10087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08" name="TextBox 10"/>
          <p:cNvSpPr/>
          <p:nvPr/>
        </p:nvSpPr>
        <p:spPr>
          <a:xfrm>
            <a:off x="5940360" y="2413080"/>
            <a:ext cx="2087640" cy="520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ло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Прямая со стрелкой 12"/>
          <p:cNvCxnSpPr/>
          <p:nvPr/>
        </p:nvCxnSpPr>
        <p:spPr>
          <a:xfrm flipH="1">
            <a:off x="3814200" y="771120"/>
            <a:ext cx="1261080" cy="1764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10" name="TextBox 13"/>
          <p:cNvSpPr/>
          <p:nvPr/>
        </p:nvSpPr>
        <p:spPr>
          <a:xfrm>
            <a:off x="5075280" y="552600"/>
            <a:ext cx="1657440" cy="520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уж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 стрелкой 17"/>
          <p:cNvCxnSpPr/>
          <p:nvPr/>
        </p:nvCxnSpPr>
        <p:spPr>
          <a:xfrm flipH="1">
            <a:off x="4355280" y="3435480"/>
            <a:ext cx="1801080" cy="73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12" name="TextBox 18"/>
          <p:cNvSpPr/>
          <p:nvPr/>
        </p:nvSpPr>
        <p:spPr>
          <a:xfrm>
            <a:off x="6156360" y="3352680"/>
            <a:ext cx="2519280" cy="520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локоль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440" y="3769920"/>
            <a:ext cx="54864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440" y="4025880"/>
            <a:ext cx="54864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C:\Users\Администратор\Desktop\Откр. урок по литер. чтен\326648.jpg"/>
          <p:cNvPicPr/>
          <p:nvPr/>
        </p:nvPicPr>
        <p:blipFill>
          <a:blip r:embed="rId1"/>
          <a:srcRect l="0" t="27866" r="0" b="27866"/>
          <a:stretch/>
        </p:blipFill>
        <p:spPr>
          <a:xfrm>
            <a:off x="755640" y="458640"/>
            <a:ext cx="777708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37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Домашнее задание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Придумать путешествие в любой механизм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C:\Documents and Settings\Anny\Рабочий стол\одоевский\Новая папка\1360411135_happiness.jpg"/>
          <p:cNvPicPr/>
          <p:nvPr/>
        </p:nvPicPr>
        <p:blipFill>
          <a:blip r:embed="rId1"/>
          <a:stretch/>
        </p:blipFill>
        <p:spPr>
          <a:xfrm>
            <a:off x="395280" y="1276200"/>
            <a:ext cx="7993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ное чтение – прекрасный урок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ого полезного в каждой из строк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их это будет, сказка, рассказ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 учите их – они учат вас!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Кто хочет разговаривать,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тот должен выговаривать,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все правильно и внятно,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чтоб было  всем понятн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1" i="1" lang="ru-RU" sz="15000" spc="-1" strike="noStrike">
                <a:solidFill>
                  <a:srgbClr val="002060"/>
                </a:solidFill>
                <a:latin typeface="Calibri"/>
              </a:rPr>
              <a:t>У </a:t>
            </a:r>
            <a:r>
              <a:rPr b="1" i="1" lang="ru-RU" sz="12000" spc="-1" strike="noStrike">
                <a:solidFill>
                  <a:srgbClr val="002060"/>
                </a:solidFill>
                <a:latin typeface="Calibri"/>
              </a:rPr>
              <a:t>А </a:t>
            </a:r>
            <a:r>
              <a:rPr b="1" i="1" lang="ru-RU" sz="9500" spc="-1" strike="noStrike">
                <a:solidFill>
                  <a:srgbClr val="002060"/>
                </a:solidFill>
                <a:latin typeface="Calibri"/>
              </a:rPr>
              <a:t>О </a:t>
            </a:r>
            <a:r>
              <a:rPr b="1" i="1" lang="ru-RU" sz="7200" spc="-1" strike="noStrike">
                <a:solidFill>
                  <a:srgbClr val="002060"/>
                </a:solidFill>
                <a:latin typeface="Calibri"/>
              </a:rPr>
              <a:t>Ы </a:t>
            </a: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206280"/>
            <a:ext cx="9036000" cy="445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Нужно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для счастья порою немного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Documents and Settings\Anny\Рабочий стол\одоевский\Новая папка\74569424_cat2_image009_6.jpg"/>
          <p:cNvPicPr/>
          <p:nvPr/>
        </p:nvPicPr>
        <p:blipFill>
          <a:blip r:embed="rId1"/>
          <a:stretch/>
        </p:blipFill>
        <p:spPr>
          <a:xfrm>
            <a:off x="539640" y="1924200"/>
            <a:ext cx="3961080" cy="2717640"/>
          </a:xfrm>
          <a:prstGeom prst="rect">
            <a:avLst/>
          </a:prstGeom>
          <a:ln w="0">
            <a:noFill/>
          </a:ln>
        </p:spPr>
      </p:pic>
      <p:pic>
        <p:nvPicPr>
          <p:cNvPr id="187" name="4406644a9c448fae65f6ec1e94fb1f61.mp3" descr=""/>
          <p:cNvPicPr/>
          <p:nvPr/>
        </p:nvPicPr>
        <p:blipFill>
          <a:blip r:embed="rId2"/>
          <a:stretch/>
        </p:blipFill>
        <p:spPr>
          <a:xfrm>
            <a:off x="139680" y="128520"/>
            <a:ext cx="426960" cy="426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Картинки по запросу сказка городок в табакерке картинки"/>
          <p:cNvPicPr/>
          <p:nvPr/>
        </p:nvPicPr>
        <p:blipFill>
          <a:blip r:embed="rId3"/>
          <a:stretch/>
        </p:blipFill>
        <p:spPr>
          <a:xfrm>
            <a:off x="4932360" y="1924200"/>
            <a:ext cx="3838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61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Картинки по запросу старинная музыкальная шкатулка"/>
          <p:cNvPicPr/>
          <p:nvPr/>
        </p:nvPicPr>
        <p:blipFill>
          <a:blip r:embed="rId1"/>
          <a:stretch/>
        </p:blipFill>
        <p:spPr>
          <a:xfrm>
            <a:off x="-900000" y="0"/>
            <a:ext cx="1089504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8" descr="Картинки по запросу картинки табакерке"/>
          <p:cNvPicPr/>
          <p:nvPr/>
        </p:nvPicPr>
        <p:blipFill>
          <a:blip r:embed="rId1"/>
          <a:stretch/>
        </p:blipFill>
        <p:spPr>
          <a:xfrm>
            <a:off x="2627280" y="0"/>
            <a:ext cx="38894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3" descr=""/>
          <p:cNvPicPr/>
          <p:nvPr/>
        </p:nvPicPr>
        <p:blipFill>
          <a:blip r:embed="rId1"/>
          <a:stretch/>
        </p:blipFill>
        <p:spPr>
          <a:xfrm>
            <a:off x="1755720" y="160200"/>
            <a:ext cx="5772240" cy="819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932360" y="1943280"/>
            <a:ext cx="399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«Городок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в табакерк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C:\Documents and Settings\Admin\Рабочий стол\одоевский.jpg"/>
          <p:cNvPicPr/>
          <p:nvPr/>
        </p:nvPicPr>
        <p:blipFill>
          <a:blip r:embed="rId2"/>
          <a:stretch/>
        </p:blipFill>
        <p:spPr>
          <a:xfrm>
            <a:off x="826920" y="1058760"/>
            <a:ext cx="4321440" cy="3600720"/>
          </a:xfrm>
          <a:prstGeom prst="rect">
            <a:avLst/>
          </a:prstGeom>
          <a:ln w="0">
            <a:noFill/>
          </a:ln>
        </p:spPr>
      </p:pic>
      <p:sp>
        <p:nvSpPr>
          <p:cNvPr id="196" name="Подзаголовок 4"/>
          <p:cNvSpPr/>
          <p:nvPr/>
        </p:nvSpPr>
        <p:spPr>
          <a:xfrm>
            <a:off x="4756320" y="4137120"/>
            <a:ext cx="3992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555480"/>
            <a:ext cx="77724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23840"/>
            <a:ext cx="8315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. А    2. Б   3. В   4. А   5. 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1T16:01:46Z</dcterms:created>
  <dc:creator>Lenovo</dc:creator>
  <dc:description/>
  <dc:language>en-US</dc:language>
  <cp:lastModifiedBy>DNA7 X64</cp:lastModifiedBy>
  <dcterms:modified xsi:type="dcterms:W3CDTF">2019-12-19T18:30:14Z</dcterms:modified>
  <cp:revision>59</cp:revision>
  <dc:subject/>
  <dc:title>Слайд 1</dc:title>
</cp:coreProperties>
</file>